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3BCFA-B287-4944-A438-7F51ECDE7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7F81A-E679-4AF4-95D1-37950E555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D7FCA-AC6C-4A82-92D2-DF72D6EF5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53BF6-0BC8-41C3-8B73-336F5CC7F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6ADE-BAA8-4047-860D-508949B3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7AB4-F464-4FB6-A189-11A4D769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6E6B-BD73-4D9E-B7E4-04175A74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2DB0-0840-4B14-91D6-EE3A34547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1FEA-E326-45EF-852E-21261878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C38D-C49F-42CE-AE82-8780EAD0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44F2-F416-49B0-B630-9E74869D0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5677-B354-4888-8181-990184257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7328-47DD-4EE2-BD22-A85A01A0D3F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280"/>
            <a:ext cx="777240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Global Population Distributio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Soil</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fertile soil was essential for early settlers, as they needed to establish agriculture in order to surv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were often the river valleys, where there was fertile alluvial s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s with thin, poor soil were far less conducive to settl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Vegetation</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 was an important fuel and building resource, so many people have concentrated near forests.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ever some, like the Amazon Rainforest, were far too thick for people to really explo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Economic</a:t>
            </a:r>
            <a:endParaRPr b="0" lang="en-US" sz="44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tend to concentrate around prosperous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untries have experienced massive rural to urban migration at some point in their development, as the farm based workers have left the rural areas to try their luck in the big cit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to urban areas has caused many problems that will be explored in a later sec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 improvements have allowed people to move to the economically prosperous areas far easi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Political</a:t>
            </a:r>
            <a:endParaRPr b="0" lang="en-US" sz="4400" spc="-1" strike="noStrike">
              <a:solidFill>
                <a:srgbClr val="000000"/>
              </a:solidFill>
              <a:latin typeface="Calibri"/>
            </a:endParaRPr>
          </a:p>
        </p:txBody>
      </p:sp>
      <p:sp>
        <p:nvSpPr>
          <p:cNvPr id="67"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ries with a stable government where people have no fear of persecution tend to have a high population density.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people have moved out of country's such as the republics of former Yugoslavia due to the political upheavals the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Social</a:t>
            </a:r>
            <a:endParaRPr b="0" lang="en-US" sz="4400" spc="-1" strike="noStrike">
              <a:solidFill>
                <a:srgbClr val="000000"/>
              </a:solidFill>
              <a:latin typeface="Calibri"/>
            </a:endParaRPr>
          </a:p>
        </p:txBody>
      </p:sp>
      <p:sp>
        <p:nvSpPr>
          <p:cNvPr id="69"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cultural groups tend to group together, especially when they first enter a new countr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Examples include areas in London which are dominated by Muslims, Hindus and Jew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prefer their own space, and live in isolation, such as the Eskimos in the Arc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Distribu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lang="en-US" sz="3200" spc="-1" strike="noStrike">
                <a:solidFill>
                  <a:srgbClr val="000000"/>
                </a:solidFill>
                <a:latin typeface="Calibri"/>
              </a:rPr>
              <a:t>population density</a:t>
            </a:r>
            <a:r>
              <a:rPr b="0" lang="en-US" sz="3200" spc="-1" strike="noStrike">
                <a:solidFill>
                  <a:srgbClr val="000000"/>
                </a:solidFill>
                <a:latin typeface="Calibri"/>
              </a:rPr>
              <a:t> is used to describe the pattern of where people live in the world.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worked out by dividing the total area of a place by its population.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figure is then shown per square kilome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nsely Vs Sparsel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laces, such as the Indian sub-continent or Western Europe have many favourable factors encouraging people to live t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are described as being densely popul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areas, such as the Polar regions and the Amazonian region have very few people living there and are described as being sparsely popul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ttp://soils.usda.gov/use/worldsoils/mapindex/popden.jpg"/>
          <p:cNvPicPr/>
          <p:nvPr/>
        </p:nvPicPr>
        <p:blipFill>
          <a:blip r:embed="rId1"/>
          <a:stretch/>
        </p:blipFill>
        <p:spPr>
          <a:xfrm>
            <a:off x="-1440" y="404640"/>
            <a:ext cx="9145440" cy="602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asons For Population Densities</a:t>
            </a:r>
            <a:endParaRPr b="0" lang="en-US" sz="4400" spc="-1" strike="noStrike">
              <a:solidFill>
                <a:srgbClr val="000000"/>
              </a:solidFill>
              <a:latin typeface="Calibri"/>
            </a:endParaRPr>
          </a:p>
        </p:txBody>
      </p:sp>
      <p:sp>
        <p:nvSpPr>
          <p:cNvPr id="48" name="PlaceHolder 2"/>
          <p:cNvSpPr>
            <a:spLocks noGrp="1"/>
          </p:cNvSpPr>
          <p:nvPr>
            <p:ph/>
          </p:nvPr>
        </p:nvSpPr>
        <p:spPr>
          <a:xfrm>
            <a:off x="456840" y="1534680"/>
            <a:ext cx="4040280" cy="639720"/>
          </a:xfrm>
          <a:prstGeom prst="rect">
            <a:avLst/>
          </a:prstGeom>
          <a:noFill/>
          <a:ln w="0">
            <a:noFill/>
          </a:ln>
        </p:spPr>
        <p:txBody>
          <a:bodyPr anchor="b">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Physical</a:t>
            </a:r>
            <a:endParaRPr b="0" lang="en-US" sz="4000" spc="-1" strike="noStrike">
              <a:solidFill>
                <a:srgbClr val="000000"/>
              </a:solidFill>
              <a:latin typeface="Calibri"/>
            </a:endParaRPr>
          </a:p>
        </p:txBody>
      </p:sp>
      <p:sp>
        <p:nvSpPr>
          <p:cNvPr id="49" name=""/>
          <p:cNvSpPr txBox="1"/>
          <p:nvPr/>
        </p:nvSpPr>
        <p:spPr>
          <a:xfrm>
            <a:off x="456840" y="2174400"/>
            <a:ext cx="4040280" cy="4683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Accessibilit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Climat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Relief</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Resourc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Soi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Vegetation</a:t>
            </a:r>
            <a:endParaRPr b="0" lang="en-US" sz="4000" spc="-1" strike="noStrike">
              <a:solidFill>
                <a:srgbClr val="000000"/>
              </a:solidFill>
              <a:latin typeface="Calibri"/>
            </a:endParaRPr>
          </a:p>
        </p:txBody>
      </p:sp>
      <p:sp>
        <p:nvSpPr>
          <p:cNvPr id="50" name="PlaceHolder 3"/>
          <p:cNvSpPr>
            <a:spLocks noGrp="1"/>
          </p:cNvSpPr>
          <p:nvPr>
            <p:ph/>
          </p:nvPr>
        </p:nvSpPr>
        <p:spPr>
          <a:xfrm>
            <a:off x="4644720" y="1534680"/>
            <a:ext cx="4041720" cy="639720"/>
          </a:xfrm>
          <a:prstGeom prst="rect">
            <a:avLst/>
          </a:prstGeom>
          <a:noFill/>
          <a:ln w="0">
            <a:noFill/>
          </a:ln>
        </p:spPr>
        <p:txBody>
          <a:bodyPr anchor="b">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uman</a:t>
            </a:r>
            <a:endParaRPr b="0" lang="en-US" sz="4000" spc="-1" strike="noStrike">
              <a:solidFill>
                <a:srgbClr val="000000"/>
              </a:solidFill>
              <a:latin typeface="Calibri"/>
            </a:endParaRPr>
          </a:p>
        </p:txBody>
      </p:sp>
      <p:sp>
        <p:nvSpPr>
          <p:cNvPr id="51" name=""/>
          <p:cNvSpPr txBox="1"/>
          <p:nvPr/>
        </p:nvSpPr>
        <p:spPr>
          <a:xfrm>
            <a:off x="4644720" y="2174760"/>
            <a:ext cx="4041720" cy="3951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conomic</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olitica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Soci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Accessibility</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rly settlers travelled by boat, and so established settlements on the coasts of the countries they landed in.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ften these were far more accessible than the interior regions of the country.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s of cities established by settlers due to their coastal location, include Sydney (Australia), New York (United States) and Cape Town (South Africa).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yed a very important role in the settlement of those countri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ior areas of countries such as Australia (Desert) and Brazil (rainforest) proved far harder to reach for the early settle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Climate</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climates for people to live in are areas where there is a steady climate, with enough sunshine and rain for crops to gr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s with climatic extremes, such as the Polar regions or deserts are too hot or cold for people to be able to easily colonis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Relief</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tend to concentrate around flat land, often in river valleys, as this is the easiest for building and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nges Valley in India is one example of a very densely populated river valle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s with high mountains were far harder to colonise, hence the fact that the Himalayas and Alps have a low population den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Resource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need water in order to survive, so that is an essential resource which determines where they choose to live.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resources such as coal, oil, and minerals have also had a great impact on where people have chosen to sett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3:20:02Z</dcterms:created>
  <dc:creator>Dell_02</dc:creator>
  <dc:description/>
  <dc:language>en-US</dc:language>
  <cp:lastModifiedBy>Dell_02</cp:lastModifiedBy>
  <dcterms:modified xsi:type="dcterms:W3CDTF">2011-01-25T03:42:12Z</dcterms:modified>
  <cp:revision>3</cp:revision>
  <dc:subject/>
  <dc:title>Global Population Distribution</dc:title>
</cp:coreProperties>
</file>